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A66-2457-46FE-AA26-0EB8E030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161-5674-412F-B230-AB294181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E98-0F9C-4BA7-9F75-6EE7E459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62D-A772-4D6F-9EC7-9C7AEC94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5C5B-D188-4DBF-B1C5-5ACCE1CD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5160-E04C-4FE8-A740-8CA277B2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3762-A8D1-4235-A094-6F57B488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E6D1-85E6-493A-8AFB-41D1A5B9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4C8D-55AD-4E67-B4E3-47577001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3C84-2E1F-4869-8409-CFF12C55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5C46-F3FF-4714-A6CA-654FE7BC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669-9D22-4739-8667-F65CD616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EA1F-73CE-4669-9EE7-15312138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BEA-5F92-41F4-BA2F-CA677C53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24C-2FD8-4995-9F2F-E7942BC6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B3BC-39EF-49C0-AC93-18F7AD91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C810-F55C-4F2A-A3F6-3319CE38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72F-0413-4B36-88EB-B36E247A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973-E9E4-49AC-8BCE-B730A4B1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B57-D31D-44A5-BDC3-0D5CE71F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17F-85BA-4A93-9C25-A18E3A2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935-217E-417F-9E68-8DA19E9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D2E-4B61-4629-8047-55FCAC4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FB4-E720-4458-9894-670D639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E4CC-8A3C-418E-8911-693CC6924E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742-8A30-4EB1-89A7-F0627D8268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acticum’s Wonderful Teach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Nicholas Do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ackward Desig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use it to make sure it is clear what topic we want to add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king backwards helps keep things in or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may had been stressfu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ed that there are 8 MI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ust be addressed when teach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d a good idea of adding music to my cl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prised that there were so many mo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overed new and different ways to ass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ic Life, IMovie, GarageBand, simple rubr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40384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we all know how we get some of those resul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79880" y="1600200"/>
            <a:ext cx="3375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ed at believing teaching was only done by writing on the bo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d a fear of talking in front of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ded at knowing that to reach every student, which is my goal, I need to teach in ways that are different from lectur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have no problem talking with all eyes on 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6:38:38Z</dcterms:created>
  <dc:creator>Student</dc:creator>
  <dc:description/>
  <dc:language>en-US</dc:language>
  <cp:lastModifiedBy>Student</cp:lastModifiedBy>
  <dcterms:modified xsi:type="dcterms:W3CDTF">2008-04-10T12:55:16Z</dcterms:modified>
  <cp:revision>8</cp:revision>
  <dc:subject/>
  <dc:title>Practicum’s Wonderful Teachings</dc:title>
</cp:coreProperties>
</file>